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D29-3762-4EA9-8F35-0C0DC947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C7B-575C-4CDF-AE88-B72BF453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180-CCF6-4F53-99E5-A348D7B1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512-0976-4A1F-8D63-47FE9BBE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C07-B1D2-4CDC-80A7-3AEEBDBF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0D9-2462-4F51-A4D9-DD52A47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B07-463B-4386-A51C-9173D9E9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933-6E2A-45B5-9DAF-B0F0C47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58D-0C3F-465B-B2F9-AA76EFE7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5D7-0558-4A50-B543-1CBB764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C60-E29B-4D24-B39B-84D3F40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59A-845C-4D1F-B409-23EF9F7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F384-F0DC-4D34-97F0-163CFD789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30492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it 2-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1066680"/>
            <a:ext cx="18288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Shawn Zh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en S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ie Sokol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a Omelyanenk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3187440" cy="322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43400" y="5943600"/>
            <a:ext cx="2060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nimal Cell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10080" y="2362320"/>
            <a:ext cx="232092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Plant Ce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9320" y="1905120"/>
            <a:ext cx="15238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Mitochondr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91320" y="5181480"/>
            <a:ext cx="297468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Marker Felt"/>
              </a:rPr>
              <a:t>Flagell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5867280"/>
            <a:ext cx="17877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tosi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62720" y="4114800"/>
            <a:ext cx="26542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tive Trans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2933640" y="3161520"/>
            <a:ext cx="4380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smos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57800" y="2666880"/>
            <a:ext cx="354024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Prokaryote vs. Eukaryot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2952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601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cell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60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86200"/>
            <a:ext cx="16765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098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0384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2670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572000"/>
            <a:ext cx="87012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148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30680" y="4362480"/>
            <a:ext cx="441000" cy="276120"/>
          </a:xfrm>
          <a:custGeom>
            <a:avLst/>
            <a:gdLst/>
            <a:ahLst/>
            <a:rect l="l" t="t" r="r" b="b"/>
            <a:pathLst>
              <a:path w="278" h="174">
                <a:moveTo>
                  <a:pt x="278" y="9"/>
                </a:moveTo>
                <a:cubicBezTo>
                  <a:pt x="195" y="62"/>
                  <a:pt x="87" y="30"/>
                  <a:pt x="0" y="0"/>
                </a:cubicBezTo>
                <a:cubicBezTo>
                  <a:pt x="2" y="11"/>
                  <a:pt x="1" y="25"/>
                  <a:pt x="8" y="35"/>
                </a:cubicBezTo>
                <a:cubicBezTo>
                  <a:pt x="19" y="52"/>
                  <a:pt x="40" y="60"/>
                  <a:pt x="52" y="78"/>
                </a:cubicBezTo>
                <a:cubicBezTo>
                  <a:pt x="65" y="97"/>
                  <a:pt x="68" y="107"/>
                  <a:pt x="87" y="122"/>
                </a:cubicBezTo>
                <a:cubicBezTo>
                  <a:pt x="151" y="173"/>
                  <a:pt x="80" y="107"/>
                  <a:pt x="130" y="157"/>
                </a:cubicBezTo>
                <a:cubicBezTo>
                  <a:pt x="135" y="162"/>
                  <a:pt x="148" y="174"/>
                  <a:pt x="148" y="174"/>
                </a:cubicBezTo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0:29:19Z</dcterms:created>
  <dc:creator>Ryan  Sokoloff</dc:creator>
  <dc:description/>
  <dc:language>en-US</dc:language>
  <cp:lastModifiedBy>Ryan  Sokoloff</cp:lastModifiedBy>
  <dcterms:modified xsi:type="dcterms:W3CDTF">2009-01-21T21:07:45Z</dcterms:modified>
  <cp:revision>2</cp:revision>
  <dc:subject/>
  <dc:title>PowerPoint Presentation</dc:title>
</cp:coreProperties>
</file>